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dt" idx="2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ftr" idx="2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 type="sldNum" idx="2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DFFF-E8A6-4D79-92AF-BB10C47A9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0F62-BC72-4DD0-9914-757632760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6156-28B9-46F4-A019-8D672C74C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1397-6414-4D21-AED1-DD026BE5B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E894-DBEF-48D1-8942-6379A32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2257-5089-4C77-9916-8333A28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B059-609D-47FF-9F84-E365843E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CD7F-64B8-4B57-8FFE-96359288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BFE2-57C8-4082-BEA2-A5750714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F315-8FFF-4C03-87C0-64717CA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18D8-DB19-43CE-83C7-B6CB7744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DFAB-D6B0-453F-91D1-98244E7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E07F-8239-47DD-B819-FB76E52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E665-8A4A-49E6-8827-843800C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8ADB-63D5-4DD8-9E46-A864326F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5D1-A980-405F-A30E-3417F309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FA7B-0157-4C1C-BF54-1C15D907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7E9B-644A-4844-913E-B3CF18FE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C2AE-7FB2-4878-B17E-2861AED1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60CF-F275-4C0F-A5F2-7A177B46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4142-66B5-4683-9896-0739EB1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BA36-DDFF-48BD-8FDB-3202E3A5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DDD4-0DDE-4A1F-A7B0-670A705E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CB05-074A-4B83-80A7-FD69BA4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1F6C-63E1-4DE9-ADD7-6A99BFA2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FBC1-F8D6-407E-B931-2F2318F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9BCB-6E36-4E01-8068-613930B7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A28D-B600-4BDB-8216-5AE7A367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A3C5-2033-4907-BBE6-B3847BAB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68AA-B2DC-43F9-B816-3DEDAFF3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EA36-8AC4-49FA-9AC0-6257F414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7209-A209-46A7-861A-36D54FB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72BC-1159-496F-BEA6-A277D9D8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1BDC0-732A-4A95-A28C-7DB40B1F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C831-7C71-4CAD-BDF2-C475207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FE94-A907-483D-A443-741E11B0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2C77-0E02-404B-9C29-99A9919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4E7F-9C7A-4354-BFC6-DA83DCDF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74F2-C6AB-45DC-A122-BA051A25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23F9-EE20-479B-9FF5-E6D6CF7C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4321D-20FC-4D74-BF2A-4DAAAA5A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2DD5-EBA8-4F00-A5FF-2D229AA3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490A1-5BCC-4EF7-85C4-2003AA6E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0133-AE30-46C9-93C0-40C73B15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E642-3C2B-4390-BF32-921C3CD6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1F25-0934-4618-A5B7-46D0C3E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B455-A5CD-44B1-B611-ACB66BB5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92A1-B0A7-4674-BFA6-7999D5E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F390-9898-496B-8F85-ACA37EFF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8914D-D2B3-4E76-8B18-33779A9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19C9-4487-47BD-ADAC-C6754C9E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9CCA-E5A8-4BC9-B154-A590175E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C811-90F8-473E-B9A3-727217B2960D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439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440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41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42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43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444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DB0F-17CD-452F-84D5-A92C81EFB7D0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8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50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8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491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492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94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95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496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97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46E3-B5DC-4AB0-B287-0EE5A83592DC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0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02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9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543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544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5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6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7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548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49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122-8769-45B4-9140-1E1904CC05D0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2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54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0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595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596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7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8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9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600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0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73FA-FA99-4CDF-84C8-860B895A7CC4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4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06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21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647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648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49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50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51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652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53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629E-87F5-4355-A6EE-561718097557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6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58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22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699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700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01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02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03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704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05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6E7-AACB-48C5-93E5-374265DD5721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8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10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23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751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752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53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54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55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756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57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8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D4B6-4285-4262-BB11-173176D89220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0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62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24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803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804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05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06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07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808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809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32A1-4882-47CB-AA94-883307F2DF1D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2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14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ftr" idx="25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855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856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57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58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59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860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86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B9F1-E785-4CB7-97C3-6BEB666494FC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4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865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66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26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48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49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0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1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2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53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3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DDE-5357-406A-9BDC-549A393056C4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FDBB-9B35-4768-B1D3-35D803F9E3C7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7E04-5893-451F-9D19-B505011B8465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FEB4-70F7-4D62-88D4-1DB89BD78DDB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589-6580-4F21-8442-7CF358756FE5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C3BB-6FB1-4D67-846D-6E922C59D3C5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FF23-A694-43CC-B53D-B6E67E019C25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D6C1-C98A-43C9-A3A3-E83968F347D6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D7B7-8B34-46F4-9652-ABD841E07D45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3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95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335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336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39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340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4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D908-B285-4D55-A6BF-75074A843CB5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6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6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387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388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89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90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91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392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93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C8E4-88FF-4E19-B3A9-BE73D25E106B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8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7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78920" y="253512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Verdana"/>
              </a:rPr>
              <a:t>Търговия с емисии на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ff0000"/>
                </a:solidFill>
                <a:latin typeface="Verdana"/>
              </a:rPr>
              <a:t>парникови газове  и цени на електрическата енергия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716360" y="5300280"/>
            <a:ext cx="36338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0253f"/>
                </a:solidFill>
                <a:latin typeface="Perpetua Titling MT"/>
              </a:rPr>
              <a:t>Институт за енергиен мениджмънт</a:t>
            </a:r>
            <a:endParaRPr b="0" lang="en-US" sz="16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15" name="Subtitle 4"/>
          <p:cNvSpPr/>
          <p:nvPr/>
        </p:nvSpPr>
        <p:spPr>
          <a:xfrm>
            <a:off x="1476360" y="476280"/>
            <a:ext cx="5543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erpetua Titling MT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Европейски цели за намаляване на емисиите на ПГ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6012000" y="1459080"/>
            <a:ext cx="849240" cy="596880"/>
          </a:xfrm>
          <a:prstGeom prst="rect">
            <a:avLst/>
          </a:prstGeom>
          <a:ln w="0">
            <a:noFill/>
          </a:ln>
        </p:spPr>
      </p:pic>
      <p:sp>
        <p:nvSpPr>
          <p:cNvPr id="918" name="TextBox 7"/>
          <p:cNvSpPr/>
          <p:nvPr/>
        </p:nvSpPr>
        <p:spPr>
          <a:xfrm>
            <a:off x="246240" y="1357200"/>
            <a:ext cx="82864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Европейската цел за намаляване на емисиите на ПГ</a:t>
            </a:r>
            <a:r>
              <a:rPr b="1" lang="bg-BG" sz="2400" spc="-1" strike="noStrike">
                <a:solidFill>
                  <a:srgbClr val="376092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Candara"/>
              </a:rPr>
              <a:t>20%</a:t>
            </a:r>
            <a:r>
              <a:rPr b="1" lang="bg-BG" sz="2400" spc="-1" strike="noStrike">
                <a:solidFill>
                  <a:srgbClr val="376092"/>
                </a:solidFill>
                <a:latin typeface="Candara"/>
              </a:rPr>
              <a:t> </a:t>
            </a: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до 2020 г. спрямо базовата 1990 г. , което включва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Намаляване с 10% спрямо 2005 г. на емисиите от инсталации извън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EU ETS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 (сгради, лека промишленост, транспорт, земеделие, отпадъци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Намаляване с 21% спрямо 2005 г. на емисиите от инсталации, участващи в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EU ETS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 (всички големи индустриални и енергийни източници на емисии, авиационния сектор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210960" y="3262320"/>
            <a:ext cx="8753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376092"/>
                </a:solidFill>
                <a:uFillTx/>
                <a:latin typeface="Verdana"/>
                <a:ea typeface="Arial"/>
              </a:rPr>
              <a:t>Зелена книга на ЕК за </a:t>
            </a:r>
            <a:r>
              <a:rPr b="1" lang="en-US" sz="1400" spc="-1" strike="noStrike" u="sng">
                <a:solidFill>
                  <a:srgbClr val="376092"/>
                </a:solidFill>
                <a:uFillTx/>
                <a:latin typeface="Verdana"/>
                <a:ea typeface="Arial"/>
              </a:rPr>
              <a:t>2030</a:t>
            </a:r>
            <a:r>
              <a:rPr b="1" lang="bg-BG" sz="1400" spc="-1" strike="noStrike">
                <a:solidFill>
                  <a:srgbClr val="376092"/>
                </a:solidFill>
                <a:latin typeface="Verdana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Климатични цели –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потенциал за икономически ефективно намаляване на ПГ с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 40%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30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-процентов дял на ВЕИ в общото крайно потребление на енергия до 2030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Следващи стъпки през 2014</a:t>
            </a:r>
            <a:r>
              <a:rPr b="1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: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0" name="Right Arrow 4"/>
          <p:cNvSpPr/>
          <p:nvPr/>
        </p:nvSpPr>
        <p:spPr>
          <a:xfrm>
            <a:off x="539640" y="5415120"/>
            <a:ext cx="7201080" cy="51912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ndar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1" name="TextBox 6"/>
          <p:cNvSpPr/>
          <p:nvPr/>
        </p:nvSpPr>
        <p:spPr>
          <a:xfrm>
            <a:off x="461880" y="4714920"/>
            <a:ext cx="158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22.01.2014: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Нов пакет 2030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2" name="Straight Connector 9"/>
          <p:cNvSpPr/>
          <p:nvPr/>
        </p:nvSpPr>
        <p:spPr>
          <a:xfrm>
            <a:off x="549360" y="54687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3" name="Straight Connector 11"/>
          <p:cNvSpPr/>
          <p:nvPr/>
        </p:nvSpPr>
        <p:spPr>
          <a:xfrm>
            <a:off x="1476360" y="56847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4" name="TextBox 12"/>
          <p:cNvSpPr/>
          <p:nvPr/>
        </p:nvSpPr>
        <p:spPr>
          <a:xfrm>
            <a:off x="1403280" y="58770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Май 2014: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ndara"/>
                <a:ea typeface="Arial"/>
              </a:rPr>
              <a:t>Избор на нов ЕП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5" name="Straight Connector 13"/>
          <p:cNvSpPr/>
          <p:nvPr/>
        </p:nvSpPr>
        <p:spPr>
          <a:xfrm>
            <a:off x="2819520" y="543888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6" name="TextBox 14"/>
          <p:cNvSpPr/>
          <p:nvPr/>
        </p:nvSpPr>
        <p:spPr>
          <a:xfrm>
            <a:off x="2843280" y="4705200"/>
            <a:ext cx="3593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Май 2014:</a:t>
            </a:r>
            <a:r>
              <a:rPr b="1" lang="bg-BG" sz="1600" spc="-1" strike="noStrike">
                <a:solidFill>
                  <a:srgbClr val="ff0000"/>
                </a:solidFill>
                <a:latin typeface="Candara"/>
                <a:ea typeface="Arial"/>
              </a:rPr>
              <a:t> </a:t>
            </a: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ДЧ представят схемите си за постигане на  енергийни спестявания от 1,5% от енергийните компани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7" name="Straight Connector 15"/>
          <p:cNvSpPr/>
          <p:nvPr/>
        </p:nvSpPr>
        <p:spPr>
          <a:xfrm>
            <a:off x="4932360" y="56847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8" name="TextBox 16"/>
          <p:cNvSpPr/>
          <p:nvPr/>
        </p:nvSpPr>
        <p:spPr>
          <a:xfrm>
            <a:off x="4824360" y="5881680"/>
            <a:ext cx="19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Юни 2014: </a:t>
            </a: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Преглед на </a:t>
            </a:r>
            <a:br>
              <a:rPr sz="1400"/>
            </a:b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напредъка ЕЕ 2020</a:t>
            </a:r>
            <a:r>
              <a:rPr b="0" lang="en-US" sz="1400" spc="-1" strike="noStrike">
                <a:solidFill>
                  <a:srgbClr val="ff0000"/>
                </a:solidFill>
                <a:latin typeface="Candara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tle 1"/>
          <p:cNvSpPr/>
          <p:nvPr/>
        </p:nvSpPr>
        <p:spPr>
          <a:xfrm>
            <a:off x="1403280" y="404640"/>
            <a:ext cx="7740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erpetua Titling MT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Схемата за търговия с емисии 2013 -2020 (трета фаза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30" name="Rectangle 4"/>
          <p:cNvGrpSpPr/>
          <p:nvPr/>
        </p:nvGrpSpPr>
        <p:grpSpPr>
          <a:xfrm>
            <a:off x="676440" y="1663560"/>
            <a:ext cx="2755800" cy="384480"/>
            <a:chOff x="676440" y="1663560"/>
            <a:chExt cx="2755800" cy="384480"/>
          </a:xfrm>
        </p:grpSpPr>
        <p:pic>
          <p:nvPicPr>
            <p:cNvPr id="931" name="Rectangle 4" descr=""/>
            <p:cNvPicPr/>
            <p:nvPr/>
          </p:nvPicPr>
          <p:blipFill>
            <a:blip r:embed="rId1"/>
            <a:stretch/>
          </p:blipFill>
          <p:spPr>
            <a:xfrm>
              <a:off x="676440" y="1663560"/>
              <a:ext cx="275580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685800" y="1674720"/>
              <a:ext cx="27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376092"/>
                  </a:solidFill>
                  <a:latin typeface="Candara"/>
                </a:rPr>
                <a:t>Цел на Европейската СТЕ: 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33" name="TextBox 6"/>
          <p:cNvSpPr/>
          <p:nvPr/>
        </p:nvSpPr>
        <p:spPr>
          <a:xfrm>
            <a:off x="4284720" y="1668600"/>
            <a:ext cx="496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Насърчаване на намаляването на емисиите по пазарен начин 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– развитие и разпространение на нискоемисионни и  високоефективни технологи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4" name="Right Arrow 7"/>
          <p:cNvSpPr/>
          <p:nvPr/>
        </p:nvSpPr>
        <p:spPr>
          <a:xfrm>
            <a:off x="3492360" y="1809720"/>
            <a:ext cx="648000" cy="46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35" name="Rectangle 8"/>
          <p:cNvGrpSpPr/>
          <p:nvPr/>
        </p:nvGrpSpPr>
        <p:grpSpPr>
          <a:xfrm>
            <a:off x="676440" y="2346480"/>
            <a:ext cx="2755800" cy="384120"/>
            <a:chOff x="676440" y="2346480"/>
            <a:chExt cx="2755800" cy="384120"/>
          </a:xfrm>
        </p:grpSpPr>
        <p:pic>
          <p:nvPicPr>
            <p:cNvPr id="936" name="Rectangle 8" descr=""/>
            <p:cNvPicPr/>
            <p:nvPr/>
          </p:nvPicPr>
          <p:blipFill>
            <a:blip r:embed="rId2"/>
            <a:stretch/>
          </p:blipFill>
          <p:spPr>
            <a:xfrm>
              <a:off x="676440" y="2346480"/>
              <a:ext cx="27558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85800" y="2357280"/>
              <a:ext cx="2736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376092"/>
                  </a:solidFill>
                  <a:latin typeface="Candara"/>
                </a:rPr>
                <a:t>Основен принцип: 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38" name="Right Arrow 9"/>
          <p:cNvSpPr/>
          <p:nvPr/>
        </p:nvSpPr>
        <p:spPr>
          <a:xfrm>
            <a:off x="3511440" y="249696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9" name="TextBox 10"/>
          <p:cNvSpPr/>
          <p:nvPr/>
        </p:nvSpPr>
        <p:spPr>
          <a:xfrm>
            <a:off x="4356000" y="2349360"/>
            <a:ext cx="478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„</a:t>
            </a: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Замърсителят плаща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“ = закупуване на разрешителни за отделяните емиси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40" name="Rectangle 11"/>
          <p:cNvGrpSpPr/>
          <p:nvPr/>
        </p:nvGrpSpPr>
        <p:grpSpPr>
          <a:xfrm>
            <a:off x="676440" y="3170160"/>
            <a:ext cx="2792160" cy="944640"/>
            <a:chOff x="676440" y="3170160"/>
            <a:chExt cx="2792160" cy="944640"/>
          </a:xfrm>
        </p:grpSpPr>
        <p:pic>
          <p:nvPicPr>
            <p:cNvPr id="941" name="Rectangle 11" descr=""/>
            <p:cNvPicPr/>
            <p:nvPr/>
          </p:nvPicPr>
          <p:blipFill>
            <a:blip r:embed="rId3"/>
            <a:stretch/>
          </p:blipFill>
          <p:spPr>
            <a:xfrm>
              <a:off x="676440" y="3170160"/>
              <a:ext cx="27921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>
              <a:off x="685800" y="3179880"/>
              <a:ext cx="27702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376092"/>
                  </a:solidFill>
                  <a:latin typeface="Candara"/>
                </a:rPr>
                <a:t>Същност и особености трета фаза на СТЕ: 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43" name="Right Arrow 12"/>
          <p:cNvSpPr/>
          <p:nvPr/>
        </p:nvSpPr>
        <p:spPr>
          <a:xfrm>
            <a:off x="3511440" y="356544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4216320" y="3141720"/>
            <a:ext cx="47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Въвежда се общ ЕС-таван на емисиите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, които намаляват линейно през всяка година до 2020г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Силно редуцирани количества разрешителни, подлежащи на безплатно разпределян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4214880" y="4048200"/>
            <a:ext cx="4978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0000"/>
                </a:solidFill>
                <a:latin typeface="Candara"/>
              </a:rPr>
              <a:t>Електропроизводителите – 100% заплащане за СО2 разрешителнит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Право на дерогация от горното правило  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Разрешителните се продават на търгове, приходите от които са насочени към държавните бюджет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Поне 50% от тези приходи – проекти за нисковъглеродно развитие (ВЕИ, енергийна ефективност, </a:t>
            </a:r>
            <a:r>
              <a:rPr b="0" lang="en-US" sz="1400" spc="-1" strike="noStrike">
                <a:solidFill>
                  <a:srgbClr val="376092"/>
                </a:solidFill>
                <a:latin typeface="Candara"/>
              </a:rPr>
              <a:t>CCS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) и борба с енергийната бедност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084720" y="2579760"/>
            <a:ext cx="344520" cy="349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" descr=""/>
          <p:cNvPicPr/>
          <p:nvPr/>
        </p:nvPicPr>
        <p:blipFill>
          <a:blip r:embed="rId5"/>
          <a:stretch/>
        </p:blipFill>
        <p:spPr>
          <a:xfrm rot="20791800">
            <a:off x="6470280" y="2629080"/>
            <a:ext cx="6476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79240" y="31248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Емисии на парникови газове от сектор Енергетика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949" name="Chart 7" descr=""/>
          <p:cNvPicPr/>
          <p:nvPr/>
        </p:nvPicPr>
        <p:blipFill>
          <a:blip r:embed="rId1"/>
          <a:stretch/>
        </p:blipFill>
        <p:spPr>
          <a:xfrm>
            <a:off x="-23760" y="1407960"/>
            <a:ext cx="4881600" cy="2882880"/>
          </a:xfrm>
          <a:prstGeom prst="rect">
            <a:avLst/>
          </a:prstGeom>
          <a:ln w="0">
            <a:noFill/>
          </a:ln>
        </p:spPr>
      </p:pic>
      <p:sp>
        <p:nvSpPr>
          <p:cNvPr id="950" name="TextBox 3"/>
          <p:cNvSpPr/>
          <p:nvPr/>
        </p:nvSpPr>
        <p:spPr>
          <a:xfrm>
            <a:off x="5508720" y="2133720"/>
            <a:ext cx="28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68% от</a:t>
            </a:r>
            <a:r>
              <a:rPr b="1" lang="en-US" sz="1600" spc="-1" strike="noStrike">
                <a:solidFill>
                  <a:srgbClr val="376092"/>
                </a:solidFill>
                <a:latin typeface="Candara"/>
              </a:rPr>
              <a:t> </a:t>
            </a: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общите  емисии на </a:t>
            </a:r>
            <a:r>
              <a:rPr b="1" lang="en-US" sz="1600" spc="-1" strike="noStrike">
                <a:solidFill>
                  <a:srgbClr val="376092"/>
                </a:solidFill>
                <a:latin typeface="Candara"/>
              </a:rPr>
              <a:t>CO2</a:t>
            </a: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 в страната се дължат на ТЕЦ, топлофикационни и заводски централи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51" name="Chart 8" descr=""/>
          <p:cNvPicPr/>
          <p:nvPr/>
        </p:nvPicPr>
        <p:blipFill>
          <a:blip r:embed="rId2"/>
          <a:stretch/>
        </p:blipFill>
        <p:spPr>
          <a:xfrm>
            <a:off x="57240" y="4403880"/>
            <a:ext cx="5789520" cy="2477880"/>
          </a:xfrm>
          <a:prstGeom prst="rect">
            <a:avLst/>
          </a:prstGeom>
          <a:ln w="0">
            <a:noFill/>
          </a:ln>
        </p:spPr>
      </p:pic>
      <p:sp>
        <p:nvSpPr>
          <p:cNvPr id="952" name="TextBox 4"/>
          <p:cNvSpPr/>
          <p:nvPr/>
        </p:nvSpPr>
        <p:spPr>
          <a:xfrm>
            <a:off x="539640" y="4344840"/>
            <a:ext cx="46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Въглеродна интензивност на електропроизводството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itle 1"/>
          <p:cNvSpPr/>
          <p:nvPr/>
        </p:nvSpPr>
        <p:spPr>
          <a:xfrm>
            <a:off x="1403280" y="484200"/>
            <a:ext cx="7740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erpetua Titling MT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Приходи от търговия с емисии през 2013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54" name="TextBox 7"/>
          <p:cNvGrpSpPr/>
          <p:nvPr/>
        </p:nvGrpSpPr>
        <p:grpSpPr>
          <a:xfrm>
            <a:off x="274680" y="3571920"/>
            <a:ext cx="4492440" cy="593280"/>
            <a:chOff x="274680" y="3571920"/>
            <a:chExt cx="4492440" cy="593280"/>
          </a:xfrm>
        </p:grpSpPr>
        <p:pic>
          <p:nvPicPr>
            <p:cNvPr id="955" name="TextBox 7" descr=""/>
            <p:cNvPicPr/>
            <p:nvPr/>
          </p:nvPicPr>
          <p:blipFill>
            <a:blip r:embed="rId1"/>
            <a:stretch/>
          </p:blipFill>
          <p:spPr>
            <a:xfrm>
              <a:off x="274680" y="3571920"/>
              <a:ext cx="44924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289080" y="3584520"/>
              <a:ext cx="446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376092"/>
                  </a:solidFill>
                  <a:latin typeface="Candara"/>
                </a:rPr>
                <a:t>Фактически приходи от продажбата на </a:t>
              </a:r>
              <a:r>
                <a:rPr b="1" lang="en-US" sz="1600" spc="-1" strike="noStrike">
                  <a:solidFill>
                    <a:srgbClr val="376092"/>
                  </a:solidFill>
                  <a:latin typeface="Candara"/>
                </a:rPr>
                <a:t>CO2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57" name="TextBox 9"/>
          <p:cNvSpPr/>
          <p:nvPr/>
        </p:nvSpPr>
        <p:spPr>
          <a:xfrm>
            <a:off x="291960" y="2747880"/>
            <a:ext cx="748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Използват се като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II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-ри финансов източник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за насърчаване на ВЕИ:</a:t>
            </a:r>
            <a:br>
              <a:rPr sz="1600"/>
            </a:b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ДКЕВР предвижда приходи от </a:t>
            </a: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499 млн. лева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за компенсиране на част от разходите за производство  на зелена енергия от ВЕ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58" name="Chart 11" descr=""/>
          <p:cNvPicPr/>
          <p:nvPr/>
        </p:nvPicPr>
        <p:blipFill>
          <a:blip r:embed="rId2"/>
          <a:stretch/>
        </p:blipFill>
        <p:spPr>
          <a:xfrm>
            <a:off x="0" y="3919680"/>
            <a:ext cx="9120240" cy="2925720"/>
          </a:xfrm>
          <a:prstGeom prst="rect">
            <a:avLst/>
          </a:prstGeom>
          <a:ln w="0">
            <a:noFill/>
          </a:ln>
        </p:spPr>
      </p:pic>
      <p:sp>
        <p:nvSpPr>
          <p:cNvPr id="959" name="TextBox 1"/>
          <p:cNvSpPr/>
          <p:nvPr/>
        </p:nvSpPr>
        <p:spPr>
          <a:xfrm>
            <a:off x="6877080" y="5994360"/>
            <a:ext cx="2338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Общо приходи: 74 766 410 </a:t>
            </a:r>
            <a:r>
              <a:rPr b="1" lang="en-US" sz="1400" spc="-1" strike="noStrike">
                <a:solidFill>
                  <a:srgbClr val="ff0000"/>
                </a:solidFill>
                <a:latin typeface="Candara"/>
                <a:ea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към 31/12/2013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324000" y="17002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ДКЕВР признава разходите за закупуване на емисии от централите, но не ги включва в ценит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61" name="TextBox 14"/>
          <p:cNvGrpSpPr/>
          <p:nvPr/>
        </p:nvGrpSpPr>
        <p:grpSpPr>
          <a:xfrm>
            <a:off x="281160" y="1407960"/>
            <a:ext cx="4303440" cy="360360"/>
            <a:chOff x="281160" y="1407960"/>
            <a:chExt cx="4303440" cy="360360"/>
          </a:xfrm>
        </p:grpSpPr>
        <p:pic>
          <p:nvPicPr>
            <p:cNvPr id="962" name="TextBox 14" descr=""/>
            <p:cNvPicPr/>
            <p:nvPr/>
          </p:nvPicPr>
          <p:blipFill>
            <a:blip r:embed="rId3"/>
            <a:stretch/>
          </p:blipFill>
          <p:spPr>
            <a:xfrm>
              <a:off x="281160" y="1407960"/>
              <a:ext cx="43034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293760" y="1417680"/>
              <a:ext cx="42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376092"/>
                  </a:solidFill>
                  <a:latin typeface="Candara"/>
                </a:rPr>
                <a:t>Разходи за </a:t>
              </a:r>
              <a:r>
                <a:rPr b="1" lang="en-US" sz="1600" spc="-1" strike="noStrike">
                  <a:solidFill>
                    <a:srgbClr val="376092"/>
                  </a:solidFill>
                  <a:latin typeface="Candara"/>
                </a:rPr>
                <a:t>CO2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964" name="TextBox 15"/>
          <p:cNvGrpSpPr/>
          <p:nvPr/>
        </p:nvGrpSpPr>
        <p:grpSpPr>
          <a:xfrm>
            <a:off x="281160" y="2279520"/>
            <a:ext cx="4376520" cy="360360"/>
            <a:chOff x="281160" y="2279520"/>
            <a:chExt cx="4376520" cy="360360"/>
          </a:xfrm>
        </p:grpSpPr>
        <p:pic>
          <p:nvPicPr>
            <p:cNvPr id="965" name="TextBox 15" descr=""/>
            <p:cNvPicPr/>
            <p:nvPr/>
          </p:nvPicPr>
          <p:blipFill>
            <a:blip r:embed="rId4"/>
            <a:stretch/>
          </p:blipFill>
          <p:spPr>
            <a:xfrm>
              <a:off x="281160" y="2279520"/>
              <a:ext cx="43765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291960" y="2290680"/>
              <a:ext cx="43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376092"/>
                  </a:solidFill>
                  <a:latin typeface="Candara"/>
                </a:rPr>
                <a:t>Приходи от </a:t>
              </a:r>
              <a:r>
                <a:rPr b="1" lang="en-US" sz="1600" spc="-1" strike="noStrike">
                  <a:solidFill>
                    <a:srgbClr val="376092"/>
                  </a:solidFill>
                  <a:latin typeface="Candara"/>
                </a:rPr>
                <a:t>CO2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"/>
          <p:cNvPicPr/>
          <p:nvPr/>
        </p:nvPicPr>
        <p:blipFill>
          <a:blip r:embed="rId1"/>
          <a:stretch/>
        </p:blipFill>
        <p:spPr>
          <a:xfrm>
            <a:off x="282600" y="1454040"/>
            <a:ext cx="6065640" cy="2495520"/>
          </a:xfrm>
          <a:prstGeom prst="rect">
            <a:avLst/>
          </a:prstGeom>
          <a:ln w="0">
            <a:noFill/>
          </a:ln>
        </p:spPr>
      </p:pic>
      <p:sp>
        <p:nvSpPr>
          <p:cNvPr id="968" name="TextBox 2"/>
          <p:cNvSpPr/>
          <p:nvPr/>
        </p:nvSpPr>
        <p:spPr>
          <a:xfrm>
            <a:off x="1042920" y="1557360"/>
            <a:ext cx="403236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Прогноза за цени на </a:t>
            </a:r>
            <a:r>
              <a:rPr b="1" lang="en-US" sz="1400" spc="-1" strike="noStrike">
                <a:solidFill>
                  <a:srgbClr val="376092"/>
                </a:solidFill>
                <a:latin typeface="Candara"/>
              </a:rPr>
              <a:t>CO2 </a:t>
            </a: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разрешителн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1547640" y="412920"/>
            <a:ext cx="7131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Цени на разрешителни за </a:t>
            </a:r>
            <a:r>
              <a:rPr b="1" lang="en-US" sz="2400" spc="-1" strike="noStrike">
                <a:solidFill>
                  <a:srgbClr val="003366"/>
                </a:solidFill>
                <a:latin typeface="Candara"/>
                <a:ea typeface="Arial"/>
              </a:rPr>
              <a:t>CO2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 емисии и влиянието им върху електроенергийния микс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70" name="Picture 3" descr=""/>
          <p:cNvPicPr/>
          <p:nvPr/>
        </p:nvPicPr>
        <p:blipFill>
          <a:blip r:embed="rId2"/>
          <a:stretch/>
        </p:blipFill>
        <p:spPr>
          <a:xfrm>
            <a:off x="7008840" y="1508040"/>
            <a:ext cx="1971720" cy="24256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2" descr=""/>
          <p:cNvPicPr/>
          <p:nvPr/>
        </p:nvPicPr>
        <p:blipFill>
          <a:blip r:embed="rId3"/>
          <a:stretch/>
        </p:blipFill>
        <p:spPr>
          <a:xfrm>
            <a:off x="284040" y="4343400"/>
            <a:ext cx="3889440" cy="2514600"/>
          </a:xfrm>
          <a:prstGeom prst="rect">
            <a:avLst/>
          </a:prstGeom>
          <a:ln w="0">
            <a:noFill/>
          </a:ln>
        </p:spPr>
      </p:pic>
      <p:sp>
        <p:nvSpPr>
          <p:cNvPr id="972" name="TextBox 11"/>
          <p:cNvSpPr/>
          <p:nvPr/>
        </p:nvSpPr>
        <p:spPr>
          <a:xfrm>
            <a:off x="4135320" y="5259240"/>
            <a:ext cx="48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ТЕЦ на твърди горива:</a:t>
            </a:r>
            <a:br>
              <a:rPr sz="1800"/>
            </a:b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само 3% от нетното електропроизводств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3" name="TextBox 12"/>
          <p:cNvSpPr/>
          <p:nvPr/>
        </p:nvSpPr>
        <p:spPr>
          <a:xfrm>
            <a:off x="4108320" y="4343400"/>
            <a:ext cx="48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Вятърната енергия:</a:t>
            </a:r>
            <a:br>
              <a:rPr sz="1800"/>
            </a:b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лидер в електропроизводствот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4" name="TextBox 13"/>
          <p:cNvSpPr/>
          <p:nvPr/>
        </p:nvSpPr>
        <p:spPr>
          <a:xfrm>
            <a:off x="282600" y="3841920"/>
            <a:ext cx="3852720" cy="52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ЕС: Нетно електропроизводство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по видове централ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5" name="TextBox 14"/>
          <p:cNvSpPr/>
          <p:nvPr/>
        </p:nvSpPr>
        <p:spPr>
          <a:xfrm>
            <a:off x="7742160" y="658188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376092"/>
                </a:solidFill>
                <a:latin typeface="Candara"/>
              </a:rPr>
              <a:t>Източник:ЕК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3"/>
          <p:cNvSpPr/>
          <p:nvPr/>
        </p:nvSpPr>
        <p:spPr>
          <a:xfrm>
            <a:off x="1547640" y="412920"/>
            <a:ext cx="7131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Прогнози </a:t>
            </a:r>
            <a:r>
              <a:rPr b="1" lang="en-US" sz="2400" spc="-1" strike="noStrike">
                <a:solidFill>
                  <a:srgbClr val="003366"/>
                </a:solidFill>
                <a:latin typeface="Candara"/>
                <a:ea typeface="Arial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за </a:t>
            </a:r>
            <a:r>
              <a:rPr b="1" lang="en-US" sz="2400" spc="-1" strike="noStrike">
                <a:solidFill>
                  <a:srgbClr val="003366"/>
                </a:solidFill>
                <a:latin typeface="Candara"/>
                <a:ea typeface="Arial"/>
              </a:rPr>
              <a:t>CO2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 емисии по сектори в ЕС до 2050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7" name="TextBox 2"/>
          <p:cNvSpPr/>
          <p:nvPr/>
        </p:nvSpPr>
        <p:spPr>
          <a:xfrm>
            <a:off x="4464360" y="22068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6251760" cy="4005360"/>
          </a:xfrm>
          <a:prstGeom prst="rect">
            <a:avLst/>
          </a:prstGeom>
          <a:ln w="0">
            <a:noFill/>
          </a:ln>
        </p:spPr>
      </p:pic>
      <p:sp>
        <p:nvSpPr>
          <p:cNvPr id="979" name="TextBox 5"/>
          <p:cNvSpPr/>
          <p:nvPr/>
        </p:nvSpPr>
        <p:spPr>
          <a:xfrm>
            <a:off x="4917960" y="5877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76092"/>
                </a:solidFill>
                <a:latin typeface="Candara"/>
              </a:rPr>
              <a:t>Източник:ЕК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0" name="TextBox 8"/>
          <p:cNvSpPr/>
          <p:nvPr/>
        </p:nvSpPr>
        <p:spPr>
          <a:xfrm>
            <a:off x="6875640" y="1773360"/>
            <a:ext cx="201744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Candara"/>
              </a:rPr>
              <a:t>2050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Енергетиката намалява емисиите на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CO2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близо  3 път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Делът на емисиите от транспорта - 2,5 пъти по-висок от дела на емисиите в Енергетикат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Емисиите от индустрията без драматични промен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14"/>
          <p:cNvSpPr/>
          <p:nvPr/>
        </p:nvSpPr>
        <p:spPr>
          <a:xfrm>
            <a:off x="1547640" y="412920"/>
            <a:ext cx="7131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Цени на електроенергия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321440" cy="4105440"/>
          </a:xfrm>
          <a:prstGeom prst="rect">
            <a:avLst/>
          </a:prstGeom>
          <a:ln w="0">
            <a:noFill/>
          </a:ln>
        </p:spPr>
      </p:pic>
      <p:sp>
        <p:nvSpPr>
          <p:cNvPr id="983" name="TextBox 1"/>
          <p:cNvSpPr/>
          <p:nvPr/>
        </p:nvSpPr>
        <p:spPr>
          <a:xfrm>
            <a:off x="4643280" y="1517760"/>
            <a:ext cx="4321440" cy="52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Прогнози за развитието на цените на електроенергията евро/МВтч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4" name="TextBox 2"/>
          <p:cNvSpPr/>
          <p:nvPr/>
        </p:nvSpPr>
        <p:spPr>
          <a:xfrm>
            <a:off x="2987640" y="56055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376092"/>
                </a:solidFill>
                <a:latin typeface="Candara"/>
              </a:rPr>
              <a:t>Източник: Евростат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5" name="TextBox 8"/>
          <p:cNvSpPr/>
          <p:nvPr/>
        </p:nvSpPr>
        <p:spPr>
          <a:xfrm>
            <a:off x="6899400" y="55389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376092"/>
                </a:solidFill>
                <a:latin typeface="Candara"/>
              </a:rPr>
              <a:t>Източник: ЕК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86" name="Chart 10" descr=""/>
          <p:cNvPicPr/>
          <p:nvPr/>
        </p:nvPicPr>
        <p:blipFill>
          <a:blip r:embed="rId2"/>
          <a:stretch/>
        </p:blipFill>
        <p:spPr>
          <a:xfrm>
            <a:off x="42840" y="1433520"/>
            <a:ext cx="4529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3366"/>
                </a:solidFill>
                <a:latin typeface="Verdana"/>
              </a:rPr>
              <a:t>Благодаря за вниманието!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8" name="Subtitle 2"/>
          <p:cNvSpPr/>
          <p:nvPr/>
        </p:nvSpPr>
        <p:spPr>
          <a:xfrm>
            <a:off x="755640" y="5180040"/>
            <a:ext cx="6400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9" name="TextBox 7"/>
          <p:cNvSpPr/>
          <p:nvPr/>
        </p:nvSpPr>
        <p:spPr>
          <a:xfrm>
            <a:off x="1692360" y="4572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Arial"/>
              </a:rPr>
              <a:t>www.emi-bg.c</a:t>
            </a:r>
            <a:r>
              <a:rPr b="1" lang="bg-BG" sz="2800" spc="-1" strike="noStrike">
                <a:solidFill>
                  <a:srgbClr val="003366"/>
                </a:solidFill>
                <a:latin typeface="Verdana"/>
                <a:ea typeface="Arial"/>
              </a:rPr>
              <a:t>о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0:59:44Z</dcterms:created>
  <dc:creator>Жана Йорданова Георгиева</dc:creator>
  <dc:description/>
  <dc:language>en-US</dc:language>
  <cp:lastModifiedBy> </cp:lastModifiedBy>
  <cp:lastPrinted>2014-01-13T16:57:36Z</cp:lastPrinted>
  <dcterms:modified xsi:type="dcterms:W3CDTF">2014-01-14T07:12:09Z</dcterms:modified>
  <cp:revision>489</cp:revision>
  <dc:subject/>
  <dc:title>PowerPoint Presentation</dc:title>
</cp:coreProperties>
</file>