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596-C71F-43B5-881B-F669651F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6F7-A373-43EF-A085-FC3F460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42F-D420-4E51-9FA6-08943E3B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1E2-FB74-4EBC-B66B-7042CE69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024-C250-4F4B-A0E1-81F8AD29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89B5-8665-47D9-8673-6F87A846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123-20F3-4640-A192-4A12FD5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7B6F-1008-47DA-8DFE-D6F7FDF8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ACB7-A808-4F3A-B839-6A27F35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D24A-D7C5-4464-8E3C-613DA6AE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3FE7-0094-4CD4-A272-47AFB9B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30F-E5E4-4B21-A159-9C5FEB33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F88A-BB43-46E5-9C7B-6CD9077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6D0F-6CCB-4EFB-8A5A-E0672FC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819E-09AA-4D4C-B59D-9EC5EB52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996C-13A1-4DDE-BA86-CDF41002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43D7-53CF-4FB7-A20C-DD3C3D2B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7633E-E101-414F-8069-5874AC04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76DD2-46D5-4E26-AB70-8E10A64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D706E-C0EE-4657-AE84-CFBCF1E2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571F5-0BC6-487B-94AD-099CF55E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2054B-BD6C-4DA9-A570-934514E3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854-2C2F-4261-805C-8A20978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51D63-BAB8-4E26-AC10-9B62CF3D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1AB98-2720-41DC-802A-01958F6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ED009-BC05-4DD6-AD86-15920F2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B21BB-5053-46C0-9A65-8A58168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2DF7D-453C-46C9-823C-5C8225E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6EACF-DE1F-46CB-B8C4-69AFEDB9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15BE9-FB66-4A2E-BF08-C100B773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8C0F5-73E8-4AF6-A203-0243666B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1650-5F56-4740-9D29-9760CCD5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F62B-B39D-422B-89C1-F65538D4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1E1-94FA-4353-9406-9C217641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1758-5EA3-4A8B-B386-986AACC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3FB4-B2F5-48A5-AEB4-430D10F5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80CD-17AF-4179-92FC-33F5B2D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70BA-2F67-46C2-8DCE-54366BF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6B18-EA19-4FF9-82C0-5B8FDE2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66CE-A71B-40CC-B6B5-958A974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51B4-4D80-4109-AEFE-88FB18EB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30AD-1CFC-41EA-A7C8-1B113FF6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EEAF-6CF6-418B-A35C-95D5FAC4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332-DD11-4FE8-848D-9307344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EC8-F9B1-40B3-BD45-38A5F801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344-737D-4415-BF66-48D9C68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7F1-C29C-418B-8FE0-3AC8E7C1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D22-3ECA-457D-A895-A297BB4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C457-68A4-48E8-B29D-F635D42D25A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AEA-F68E-44A9-BD61-A923C55E8F9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7FCB-A845-4D63-9984-B0A1487E4C0F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4C7E-716B-42B1-AC88-BFD30C5CA57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FAC5-58CD-4474-85F8-DE56B4B408DA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A54-2D6B-46F6-9C80-150EAD84705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F514-A7E9-44B5-B9C7-CB5D149B76F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1210-DE7B-4A3E-92AB-E2A9E54C8D6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87640" y="2349000"/>
            <a:ext cx="33130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94c600"/>
                </a:solidFill>
                <a:latin typeface="Century Gothic"/>
              </a:rPr>
              <a:t>Разпределяне на безплатни квоти на инсталациите в ЕСТЕ. Подготовка на нов списък със сектори, изложени на риск от изтичане на въглерод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88000" y="4941720"/>
            <a:ext cx="33098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Стефка Дойчинова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главен експерт в дирекция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„</a:t>
            </a: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Политика по изменение на климата“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Министерство на околната среда и водите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C8CE-892B-4C02-AFFE-5B6BC3A4794D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6422760" y="17733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94c600"/>
                </a:solidFill>
                <a:latin typeface="Century Gothic"/>
              </a:rPr>
              <a:t>Структу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655720"/>
            <a:ext cx="67770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e3d2d"/>
                </a:solidFill>
                <a:latin typeface="Century Gothic"/>
              </a:rPr>
              <a:t>Разпределяне на безплатни квоти за периода 2013-2020 г. – актуална информация и следващи стъп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дготовката на нов списък на отраслите, изложени на риск от изтичане на въглеро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9DC-F092-431C-B9E1-C3C3EEF74864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4c600"/>
                </a:solidFill>
                <a:latin typeface="Century Gothic"/>
              </a:rPr>
              <a:t>Разпределяне на безплатни квоти за периода 2013-2020 г.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87280" y="1628640"/>
            <a:ext cx="6777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e3d2d"/>
                </a:solidFill>
                <a:latin typeface="Century Gothic"/>
              </a:rPr>
              <a:t>Докладвани и одобрени от ЕК Национални мерки за изпълнение, в които е определено предварителното количество квоти за всяка инсталация в ЕСТ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e3d2d"/>
                </a:solidFill>
                <a:latin typeface="Century Gothic"/>
              </a:rPr>
              <a:t>Изготвен списък с инсталациите с частични спирания на експлоатация и значително намаление на капацитета съгласно чл. 21 и чл. 23 на Решение 278/2011/ЕК: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e3d2d"/>
                </a:solidFill>
                <a:latin typeface="Century Gothic"/>
              </a:rPr>
              <a:t>32 инсталации с намалено разпределението за 2013 г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e3d2d"/>
                </a:solidFill>
                <a:latin typeface="Century Gothic"/>
              </a:rPr>
              <a:t>Приключва процедурата по съгласуване на направените промени с операторит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e3d2d"/>
                </a:solidFill>
                <a:latin typeface="Century Gothic"/>
              </a:rPr>
              <a:t>Двуседмична проверка на ЕК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a6300"/>
                </a:solidFill>
                <a:latin typeface="Century Gothic"/>
              </a:rPr>
              <a:t>Следващи стъпки: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a6300"/>
                </a:solidFill>
                <a:latin typeface="Century Gothic"/>
              </a:rPr>
              <a:t>Докладване на ЕК на инсталации със значително увеличение на капацитета и нови инсталации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a6300"/>
                </a:solidFill>
                <a:latin typeface="Century Gothic"/>
              </a:rPr>
              <a:t>Докладване на данни за промени в експлоатацията през 2013 г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a6300"/>
                </a:solidFill>
                <a:latin typeface="Century Gothic"/>
              </a:rPr>
              <a:t>Определяне на окончателно разпределение за  2014 г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51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98B-9C78-4540-9949-8E85D6FEA437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94c600"/>
                </a:solidFill>
                <a:latin typeface="Century Gothic"/>
              </a:rPr>
              <a:t>Нов списък на отраслите с риск от изтичане на въглерод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915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Първият списък на отрасли с риск от изтичане на въглерод, е одобрен през 2009 г. (Решение на ЕК 2010/2/EС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e3d2d"/>
                </a:solidFill>
                <a:latin typeface="Century Gothic"/>
              </a:rPr>
              <a:t>Задължение на ЕК да подготвя нов списък на всеки 5 години - чл. 10а (13) на Директива 2003/87/ЕО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e3d2d"/>
                </a:solidFill>
                <a:latin typeface="Century Gothic"/>
              </a:rPr>
              <a:t>ЕК подготвя нов списък за периода 2015-2019 г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e3d2d"/>
                </a:solidFill>
                <a:latin typeface="Century Gothic"/>
              </a:rPr>
              <a:t>Условията за включване на даден отрасъл в списъка са определени в чл.15 и чл. 16 на Директива 2003/87/ЕО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a6300"/>
                </a:solidFill>
                <a:latin typeface="Century Gothic"/>
              </a:rPr>
              <a:t>Предстои ЕК да представи проекта на списъка на Комитета по изменение на климат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a6300"/>
                </a:solidFill>
                <a:latin typeface="Century Gothic"/>
              </a:rPr>
              <a:t>МОСВ ще изпрати проекта на списъка до инсталациите/браншовите организации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0E8-140B-495F-88F3-22776999C430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2356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94c600"/>
                </a:solidFill>
                <a:latin typeface="Century Gothic"/>
              </a:rPr>
              <a:t>Благодаря за вниманието!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787640" y="5419800"/>
            <a:ext cx="38876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Стефка Дойчинова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главен експерт в дирекция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„</a:t>
            </a: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Политика по изменение на климата“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Министерство на околната среда и водите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F1A6-581E-4F0A-9DC4-4D8E26BC2A2C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0:56:09Z</dcterms:created>
  <dc:creator>Vladislav Dramaliev</dc:creator>
  <dc:description/>
  <dc:language>en-US</dc:language>
  <cp:lastModifiedBy>Stefka Doychinova</cp:lastModifiedBy>
  <cp:lastPrinted>2014-01-14T07:39:07Z</cp:lastPrinted>
  <dcterms:modified xsi:type="dcterms:W3CDTF">2014-01-14T07:41:03Z</dcterms:modified>
  <cp:revision>80</cp:revision>
  <dc:subject/>
  <dc:title>„Политики за смекча</dc:title>
</cp:coreProperties>
</file>